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E7FB-AD26-4703-B72E-4FE1163C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8533-326F-4C95-8569-76C4754A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330-7DAE-4AFE-A6C8-7A49ACE6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B572-C580-4DC8-8C86-AAFBA0B1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E4B-8365-4590-BB3C-935159E3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08F9-D0DC-4811-A63A-FF96F027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FD4C-6A09-4FA9-BB3D-56793DE8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513-7306-4792-A161-54F5D3A90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D3B-461B-43A9-99BF-4936D122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237-F11E-49DE-B8D6-A3F6FC4C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509-38AE-41B6-8560-2990E624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8459-BE1F-4276-AC70-DB19D300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0B50-49D4-49BF-A046-7D78F6DD1AB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newseum.org/berlinwall/two_sides_one_story/a_clash_of_ideas/radio.htm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newseum.org/berlinwall/two_sides_one_story/a_clash_of_ideas/newspapers.htm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newseum.org/berlinwall/two_sides_one_story/a_clash_of_ideas/berlin_airlift.htm" TargetMode="External"/><Relationship Id="rId7" Type="http://schemas.openxmlformats.org/officeDocument/2006/relationships/image" Target="../media/image4.png"/><Relationship Id="rId8" Type="http://schemas.openxmlformats.org/officeDocument/2006/relationships/image" Target="../media/image5.jpeg"/><Relationship Id="rId9" Type="http://schemas.openxmlformats.org/officeDocument/2006/relationships/hyperlink" Target="http://www.newseum.org/berlinwall/two_sides_one_story/the_barriers_rise/radio.htm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39625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WHY WAS THE BERLIN WALL BUILT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33520"/>
            <a:ext cx="3276720" cy="12952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BACKGROUND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1945, WWII ended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Germany was in ruins; everything had to be rebuil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(including the Media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Allies split Berlin &amp; Germany into 4 zones.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(USA, Britain, France, and the USSR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1949: the USA, Britain, France zones were combined into ‘West Germany’; USSR formed ‘East  Germany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3276720" cy="23619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A CLASH OF IDEAS: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* USA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: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Democracy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Freedom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A privately owned press (without  government control) was built in West Germany (by military forces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People could read &amp; do what they want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*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USSR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Socialist Republic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government controlled all economic activities: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Including the Media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News = teaching tool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People were supposed to read and learn what the government wanted them to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>
            <a:hlinkClick r:id="rId2"/>
          </p:cNvPr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92160" y="434340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rId4"/>
          </p:cNvPr>
          <p:cNvPicPr/>
          <p:nvPr/>
        </p:nvPicPr>
        <p:blipFill>
          <a:blip r:embed="rId5">
            <a:lum bright="18000"/>
          </a:blip>
          <a:stretch/>
        </p:blipFill>
        <p:spPr>
          <a:xfrm>
            <a:off x="76320" y="5181480"/>
            <a:ext cx="514080" cy="514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Berlin Air Lift">
            <a:hlinkClick r:id="rId6"/>
          </p:cNvPr>
          <p:cNvPicPr/>
          <p:nvPr/>
        </p:nvPicPr>
        <p:blipFill>
          <a:blip r:embed="rId7">
            <a:lum bright="18000"/>
          </a:blip>
          <a:stretch/>
        </p:blipFill>
        <p:spPr>
          <a:xfrm>
            <a:off x="76320" y="6019920"/>
            <a:ext cx="514080" cy="514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4343400"/>
            <a:ext cx="3124440" cy="68580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RADIO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USSR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May 1945, Immediately took over Berlin's                          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only surviving radio transmitter (refusing to let th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other Allies to use it)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USA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Nov. 1945, Started DIAS (Drahtfunk): telephon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wires that carried signals to special home receiv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5105520"/>
            <a:ext cx="3124440" cy="76176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NEWSPAPE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EAS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) Written voice of the state. All news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were used “to direct the thinking of the peopl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into correct political lines”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WEST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Free press model. Oct. 18 1945: ‘Neu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Zeitung’  was established. In the West, nearly 20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 papers were in a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5943600"/>
            <a:ext cx="3124440" cy="76212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THE BERLIN BLOCKADE: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1948 the USSR blockaded West Germany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The West launched ‘The Berlin Airlift’, flying 8,000 tons of food and other necessities to the 2.5 million Berliners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May 1949: Blockade was lif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066680"/>
            <a:ext cx="4952880" cy="1524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THE BARRIER RISES:</a:t>
            </a:r>
            <a:br>
              <a:rPr sz="1000"/>
            </a:br>
            <a:r>
              <a:rPr b="1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By 1961, 1,000 people </a:t>
            </a:r>
            <a:r>
              <a:rPr b="0" i="1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a day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fled from East Germany to West Germany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(Many who escaped were young and trained professionals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West Media reported the exodus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The East (censored) media ignored i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August 13, 1961: the East German government built a 27-mile-long wall of barbed wir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splitting East from West Berlin to ‘protect citizens from capitalism’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elephone lines &amp; mail service between East and West Germany were cu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Citizens in the East couldn’t visit the We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Wire was then replaced  with stones, steel, and (army) force.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THE BERLIN WALL WAS BUI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8"/>
          <a:srcRect l="0" t="3929" r="5098" b="5894"/>
          <a:stretch/>
        </p:blipFill>
        <p:spPr>
          <a:xfrm>
            <a:off x="3809880" y="2666880"/>
            <a:ext cx="2241720" cy="1752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" descr="">
            <a:hlinkClick r:id="rId9"/>
          </p:cNvPr>
          <p:cNvPicPr/>
          <p:nvPr/>
        </p:nvPicPr>
        <p:blipFill>
          <a:blip r:embed="rId10">
            <a:lum bright="18000"/>
          </a:blip>
          <a:stretch/>
        </p:blipFill>
        <p:spPr>
          <a:xfrm>
            <a:off x="6095880" y="3067200"/>
            <a:ext cx="514440" cy="51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>
            <a:lum bright="24000"/>
          </a:blip>
          <a:stretch/>
        </p:blipFill>
        <p:spPr>
          <a:xfrm>
            <a:off x="6095880" y="405756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>
            <a:lum bright="24000"/>
          </a:blip>
          <a:stretch/>
        </p:blipFill>
        <p:spPr>
          <a:xfrm>
            <a:off x="6172200" y="5048280"/>
            <a:ext cx="514440" cy="514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>
            <a:lum bright="30000"/>
          </a:blip>
          <a:stretch/>
        </p:blipFill>
        <p:spPr>
          <a:xfrm>
            <a:off x="6172200" y="6114960"/>
            <a:ext cx="514440" cy="514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2666880"/>
            <a:ext cx="2489040" cy="106704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RADIO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USSR):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August 13, East German radio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broadcasted…they were grateful to be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protected from the criminals in the West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(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WEST)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The US sector radio reporte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that wire fences were sealing off th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border, and that Soviet tanks rolled into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East Berlin.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315200" y="114480"/>
            <a:ext cx="165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新細明體"/>
              </a:rPr>
              <a:t>-CHRISTINE SHIH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3809880"/>
            <a:ext cx="2514600" cy="91440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NEWSPAPER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 </a:t>
            </a:r>
            <a:r>
              <a:rPr b="1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(USSR)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Neues Deutschland (East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German newspaper) … no mention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of the government’s plan to buil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the border…announced that th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wall was for protection…Aug 14,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                       protesters were arres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4800600"/>
            <a:ext cx="2438280" cy="91440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SHOT AT THE WALL: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August 17, 1962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Peter Fechter (18 year-old bricklayer) tried to jump  over the wall. 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East German soldiers fired and wouldn’t allow anyone to help Fechter </a:t>
            </a:r>
            <a:r>
              <a:rPr b="0" lang="en-US" sz="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 he died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50th casua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705720" y="5791320"/>
            <a:ext cx="2438280" cy="99036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ffffff"/>
                </a:solidFill>
                <a:uFillTx/>
                <a:latin typeface="Arial"/>
                <a:ea typeface="新細明體"/>
              </a:rPr>
              <a:t>REPORT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: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August 1961, Kellett-Long reported (from East Berlin) to London about the increasing tensions (e.g. Police harassing passengers travelling to the West) 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  <a:ea typeface="新細明體"/>
              </a:rPr>
              <a:t>- The report didn’t get to London (it was censor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825720" y="4495680"/>
            <a:ext cx="2270160" cy="2210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SUMMARY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The Berlin Wall was built because…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1. WEST: democracy (free speech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EAST: Communism (repression, no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freedom of speech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2. Higher living standards in the West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than in the East 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1948: West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Germany  got financial help from the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Marshall plan (USA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3. 1949-1961: more than 2.6 millio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  East Berliners fled to West Berlin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 East Germany was rapidly losing both its labour force and its popul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533520"/>
            <a:ext cx="4952880" cy="5331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ffff"/>
                </a:solidFill>
                <a:uFillTx/>
                <a:latin typeface="Calibri"/>
                <a:ea typeface="新細明體"/>
              </a:rPr>
              <a:t>SUCCESSES OF THE WEST: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Capitalist society &amp; Marshall Aid (1948) </a:t>
            </a:r>
            <a:r>
              <a:rPr b="0" lang="en-US" sz="1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 rapid economy growth (“the economic miracle”)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新細明體"/>
              </a:rPr>
              <a:t>- West Germany: able to live well, buy gadgets and appliances, and to tra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2:11:48Z</dcterms:created>
  <dc:creator>shihc</dc:creator>
  <dc:description/>
  <dc:language>en-US</dc:language>
  <cp:lastModifiedBy>kevin</cp:lastModifiedBy>
  <dcterms:modified xsi:type="dcterms:W3CDTF">2011-03-04T01:52:27Z</dcterms:modified>
  <cp:revision>38</cp:revision>
  <dc:subject/>
  <dc:title>WHY WAS THE BERLIN WALL BUILT?</dc:title>
</cp:coreProperties>
</file>